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2592-AF9E-4FAB-89B5-7DF418934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25C8-4157-482D-9209-9B59E113EA2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4815-61D8-4EEC-9669-A35FA51C47A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08F2-5436-4D64-BDAA-AB66E5CE827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80FA-934F-4429-BE2D-7DFD0E8FA6B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8D2F-F083-407F-B5DF-0347B438616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36B9-C301-43C7-A315-2E1A74AAB8F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78DC-0B8A-4915-990C-775857F6A4B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4A15-93F4-4E9A-B1EE-4A491E76434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1761-9940-4FC8-AE63-25EC4E6880B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62F9-D418-459A-BE1E-CC4501FAD7D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954-F706-436C-927D-3A7E873CFB6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D024-21C4-468F-A27D-CA1EF77D141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4CD-3483-429F-889F-3D2E41F61E7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DDB6-F3AF-4551-A7D0-1DB156E44E2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0A2A-55AC-4795-AF8E-73A3EA09D26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C8F6-F83F-4C3E-93B8-D5F65351DEF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61CB-7222-495C-B195-7A24D90D815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69D-5F0D-4C2A-A08D-CECEE454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AAC-B096-437B-B907-8991F43B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BBA-8133-4EA7-BE72-ECF72F3E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EA0-3AED-4A2C-982A-C748E6A7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5E7E-7C47-43E8-B579-240F5CAB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6CD0-4429-4E59-94C3-36047AC9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9CF2-A51C-4112-AD46-FB9D344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A88F-1254-49B5-A6D3-8B0F68B0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1456-16CA-4420-8D1D-B5781A51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C0C4-A81E-40C1-AE61-1C569D06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8AF8-A650-464F-B5EB-CDB79CF3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8B7-4663-4EE3-8A21-5522946F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DC4B-5E61-49DA-846F-ADCF96F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6006-E957-4E58-AB5F-22D6991B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C245-8D03-4A29-B65D-011477FC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E876-28DE-4E94-B73E-0D2B8C8A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DCA8-4F17-4D6F-A03B-6E599B67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A67-720C-41B1-BA90-56AEA542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88B-101D-4D8A-9AD6-D5376DDC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EB0-ED31-4183-B7BB-394C102D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29F-6069-4384-886A-5BC7E99D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BBA-8B9E-4F19-9F7E-A91A5232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BA7-1686-41CA-ABB0-B13FB4FF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40A-2A25-4A2B-B1A7-A79BB803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AD42-409B-4C13-8986-30EC1D8D5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94CF-7FA1-44BC-9BC3-9E54382E538B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Echalk email Session 4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09680" y="167652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Folders &amp; Searching eChalk Email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Let’s organize our inboxes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Create at least 2 new folders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Move &amp; organize your messages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If needed, clean out your folders (using delete)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Role play with a partner. Pretend one of you is the teacher &amp; the other is the iSquader. The teacher describes a lost message using key words, the sender, or subject of a message.  See if you can find it using Search. Switch roles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folders did you set up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made searching successfu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1216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ometimes teachers are concerned that they are not getting their email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eck the space report for the folders.  Does the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en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mail (or other folder) need to be cleaned ou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ing Troubleshooting Ti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2) How do I recover a deleted messag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ing Troubleshooting Ti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1857600" y="2286000"/>
            <a:ext cx="5305320" cy="1905120"/>
            <a:chOff x="1857600" y="2286000"/>
            <a:chExt cx="5305320" cy="1905120"/>
          </a:xfrm>
        </p:grpSpPr>
        <p:pic>
          <p:nvPicPr>
            <p:cNvPr id="160" name="Picture 1024" descr=""/>
            <p:cNvPicPr/>
            <p:nvPr/>
          </p:nvPicPr>
          <p:blipFill>
            <a:blip r:embed="rId1"/>
            <a:stretch/>
          </p:blipFill>
          <p:spPr>
            <a:xfrm>
              <a:off x="2290320" y="2286000"/>
              <a:ext cx="4872600" cy="190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Group 8"/>
            <p:cNvGrpSpPr/>
            <p:nvPr/>
          </p:nvGrpSpPr>
          <p:grpSpPr>
            <a:xfrm>
              <a:off x="1857600" y="2616840"/>
              <a:ext cx="2063160" cy="1056240"/>
              <a:chOff x="1857600" y="2616840"/>
              <a:chExt cx="2063160" cy="1056240"/>
            </a:xfrm>
          </p:grpSpPr>
          <p:pic>
            <p:nvPicPr>
              <p:cNvPr id="162" name="Picture 5" descr="C:\Program Files\Microsoft Office\MEDIA\OFFICE12\Bullets\BD21298_.gif"/>
              <p:cNvPicPr/>
              <p:nvPr/>
            </p:nvPicPr>
            <p:blipFill>
              <a:blip r:embed="rId2"/>
              <a:stretch/>
            </p:blipFill>
            <p:spPr>
              <a:xfrm rot="8227800">
                <a:off x="3374640" y="3268800"/>
                <a:ext cx="528480" cy="25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5" descr="C:\Program Files\Microsoft Office\MEDIA\OFFICE12\Bullets\BD21298_.gif"/>
              <p:cNvPicPr/>
              <p:nvPr/>
            </p:nvPicPr>
            <p:blipFill>
              <a:blip r:embed="rId3"/>
              <a:stretch/>
            </p:blipFill>
            <p:spPr>
              <a:xfrm rot="3372000">
                <a:off x="1847520" y="2779200"/>
                <a:ext cx="528840" cy="25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4" name="TextBox 7"/>
          <p:cNvSpPr/>
          <p:nvPr/>
        </p:nvSpPr>
        <p:spPr>
          <a:xfrm>
            <a:off x="533520" y="4195800"/>
            <a:ext cx="8610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f the deleted messages are not being saved in the deleted mail folder, be sure that option has been selected (in Options folder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f a message has been deleted in the past 30 days, (but not on the same day it was received) contact eChalk for recovery. (support@echalk.com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folders be used to organize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help someone find a ‘lost’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folders be used to organize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help someone find a ‘lost’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f you were to print every email you receive and file them in paper folders- how would you divide up/ organize the email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you think a teacher might divide his/her email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will be creating electronic folders to sort our inbox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ow is email organized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6" name="Picture 1024" descr=""/>
          <p:cNvPicPr/>
          <p:nvPr/>
        </p:nvPicPr>
        <p:blipFill>
          <a:blip r:embed="rId1"/>
          <a:stretch/>
        </p:blipFill>
        <p:spPr>
          <a:xfrm>
            <a:off x="382680" y="3048120"/>
            <a:ext cx="8380440" cy="3276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457200" y="2438280"/>
            <a:ext cx="1828800" cy="36828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2. Click Folders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57200" y="1828800"/>
            <a:ext cx="1523880" cy="36828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1. Login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858000" y="4648320"/>
            <a:ext cx="1523880" cy="119124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What does the space report tell you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 rot="6037200">
            <a:off x="460440" y="3614760"/>
            <a:ext cx="900000" cy="442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2590920" y="2133720"/>
            <a:ext cx="4495680" cy="825480"/>
          </a:xfrm>
          <a:prstGeom prst="rect">
            <a:avLst/>
          </a:prstGeom>
          <a:noFill/>
          <a:ln w="2844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the standard folder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is each folder used for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13980600">
            <a:off x="5864400" y="4614480"/>
            <a:ext cx="900000" cy="442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8397600">
            <a:off x="2322000" y="3776400"/>
            <a:ext cx="2190960" cy="442800"/>
          </a:xfrm>
          <a:prstGeom prst="rect">
            <a:avLst/>
          </a:prstGeom>
          <a:ln w="0">
            <a:noFill/>
          </a:ln>
        </p:spPr>
      </p:pic>
      <p:sp>
        <p:nvSpPr>
          <p:cNvPr id="114" name="Left-Up Arrow 13"/>
          <p:cNvSpPr/>
          <p:nvPr/>
        </p:nvSpPr>
        <p:spPr>
          <a:xfrm rot="2836200">
            <a:off x="2512800" y="5710320"/>
            <a:ext cx="761760" cy="761760"/>
          </a:xfrm>
          <a:prstGeom prst="pie">
            <a:avLst/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5334120" y="3048120"/>
            <a:ext cx="914400" cy="152280"/>
          </a:xfrm>
          <a:prstGeom prst="rect">
            <a:avLst/>
          </a:prstGeom>
          <a:solidFill>
            <a:srgbClr val="491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e a New Fold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Picture 1024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6858000" cy="2681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3581280" y="4419720"/>
            <a:ext cx="46576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6037200">
            <a:off x="1374480" y="3081240"/>
            <a:ext cx="900360" cy="442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457200" y="2297160"/>
            <a:ext cx="2438280" cy="36828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1. Click Create Folder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705720" y="3733920"/>
            <a:ext cx="1523880" cy="36828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2.  Name it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838080" y="5943600"/>
            <a:ext cx="5334120" cy="368280"/>
          </a:xfrm>
          <a:prstGeom prst="rect">
            <a:avLst/>
          </a:prstGeom>
          <a:solidFill>
            <a:srgbClr val="1b1b54"/>
          </a:solidFill>
          <a:ln w="1908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3. Your new folder will appear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ove Messag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695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319104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Right Arrow 8"/>
          <p:cNvSpPr/>
          <p:nvPr/>
        </p:nvSpPr>
        <p:spPr>
          <a:xfrm>
            <a:off x="1066680" y="29718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04920" y="1981080"/>
            <a:ext cx="1523880" cy="91692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1. Check box next to email to mov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8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18190200">
            <a:off x="1809360" y="5610240"/>
            <a:ext cx="900000" cy="44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6037200">
            <a:off x="2559960" y="1709640"/>
            <a:ext cx="640080" cy="315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1"/>
          <p:cNvSpPr/>
          <p:nvPr/>
        </p:nvSpPr>
        <p:spPr>
          <a:xfrm>
            <a:off x="304920" y="4343400"/>
            <a:ext cx="1676160" cy="91692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2.  Click Move to Folder (either button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1" name="Picture 5" descr="C:\Program Files\Microsoft Office\MEDIA\OFFICE12\Bullets\BD21298_.gif"/>
          <p:cNvPicPr/>
          <p:nvPr/>
        </p:nvPicPr>
        <p:blipFill>
          <a:blip r:embed="rId5"/>
          <a:stretch/>
        </p:blipFill>
        <p:spPr>
          <a:xfrm rot="17871600">
            <a:off x="5389560" y="5081760"/>
            <a:ext cx="557280" cy="442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2"/>
          <p:cNvSpPr/>
          <p:nvPr/>
        </p:nvSpPr>
        <p:spPr>
          <a:xfrm>
            <a:off x="3124080" y="5562720"/>
            <a:ext cx="2438640" cy="119124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3. Off drop down menu, select folder to move message to. Click ok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arch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you find a ‘missing’ messag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543720" cy="3319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514600" y="4724280"/>
            <a:ext cx="876240" cy="113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3372000">
            <a:off x="1132920" y="3819240"/>
            <a:ext cx="528480" cy="258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380880" y="2895480"/>
            <a:ext cx="1219320" cy="64260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Click search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6781680" y="3733920"/>
            <a:ext cx="1524240" cy="256284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Choose which folder(s) to search. Narrow your search by entering the criteria you know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762120" y="5867280"/>
            <a:ext cx="5638680" cy="64260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Search by key word in the subject or body of email or by person it was Cc’d to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1" name="Picture 9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19407600">
            <a:off x="2006280" y="5465520"/>
            <a:ext cx="5284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actice searching for a message that you know the location of.  Was it found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criteria helped you locate i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3-04T01:16:19Z</dcterms:modified>
  <cp:revision>42</cp:revision>
  <dc:subject/>
  <dc:title>Workshop Title</dc:title>
</cp:coreProperties>
</file>